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670ACD-E16F-4E41-B878-D27C7BB3E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7A6-2094-46D6-A6B2-B4D3B86A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478-CD06-4700-8556-D6CF2F48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A5F-42D4-44EF-938B-50E42A04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F4B-A339-42F2-8B6C-C6BC3E6F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1AD0-1692-4F05-BA3C-3A1E9A8F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3636-0E73-4E3F-B615-720FD2DE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DB7C-05E2-437B-A32A-5857A5B4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8F8B-6297-4F72-8C31-CEA125DA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AE2F-B941-4523-B084-01804F5D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98DB-B738-451D-AE11-DAE1BB8B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8C6B-D53B-4BBA-B9A1-DEA09878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0B9-F715-49A0-A7C9-484F4399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A9D3-EA17-44C6-9374-6E48A81A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A05C-BC4E-45A1-9070-F37C30D1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89C6-78F6-485B-8EFD-4B39BEE4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1F01-E870-4756-8B2F-E7B89C17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68DF-1410-46C1-B6A9-C5FF85A8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A7A-E9CF-4F02-B6C0-35D27F0D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EF5-013A-4973-A190-290AE439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DE7-6070-45CF-9B0A-2F373F9C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0C9-CEB7-4EF5-A913-DE0433D7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C95-B459-47AF-9C61-BF6841E8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8A9-6B3C-45E5-BE51-F2EA151D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0F1-64BB-42CF-BA74-FE364BAA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371A-0336-4EAC-8484-D32432337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F53A-E068-464B-8DA5-F83A4E247F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Lucida Sans"/>
              </a:rPr>
              <a:t>The power of “</a:t>
            </a:r>
            <a:r>
              <a:rPr b="0" i="1" lang="it-IT" sz="2800" spc="-1" strike="noStrike">
                <a:solidFill>
                  <a:srgbClr val="262673"/>
                </a:solidFill>
                <a:latin typeface="Lucida Sans"/>
              </a:rPr>
              <a:t>failing</a:t>
            </a:r>
            <a:r>
              <a:rPr b="0" lang="it-IT" sz="2800" spc="-1" strike="noStrike">
                <a:solidFill>
                  <a:srgbClr val="262673"/>
                </a:solidFill>
                <a:latin typeface="Lucida San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71680" y="1928880"/>
            <a:ext cx="778644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42960" y="4357800"/>
            <a:ext cx="77868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6" name="Picture 3" descr="C:\Users\ferragin\Desktop\Picture3.png"/>
          <p:cNvPicPr/>
          <p:nvPr/>
        </p:nvPicPr>
        <p:blipFill>
          <a:blip r:embed="rId2"/>
          <a:stretch/>
        </p:blipFill>
        <p:spPr>
          <a:xfrm>
            <a:off x="4035600" y="3108240"/>
            <a:ext cx="1893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9080" y="-9360"/>
            <a:ext cx="9063000" cy="6867360"/>
          </a:xfrm>
          <a:prstGeom prst="rect">
            <a:avLst/>
          </a:prstGeom>
          <a:ln w="0">
            <a:noFill/>
          </a:ln>
        </p:spPr>
      </p:pic>
      <p:sp>
        <p:nvSpPr>
          <p:cNvPr id="155" name="Rettangolo arrotondato 5"/>
          <p:cNvSpPr/>
          <p:nvPr/>
        </p:nvSpPr>
        <p:spPr>
          <a:xfrm>
            <a:off x="1857240" y="5929200"/>
            <a:ext cx="7286760" cy="928800"/>
          </a:xfrm>
          <a:prstGeom prst="roundRect">
            <a:avLst>
              <a:gd name="adj" fmla="val 16667"/>
            </a:avLst>
          </a:prstGeom>
          <a:solidFill>
            <a:srgbClr val="745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Other advantage: no key storag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785880" y="2571840"/>
            <a:ext cx="7786800" cy="23922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928800" y="5143680"/>
            <a:ext cx="55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111480" y="5800680"/>
            <a:ext cx="2262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7675560" cy="38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data structures should we use to keep track of the visited URLs of a crawler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RLs ar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lo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eck should b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very 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60000"/>
              </a:lnSpc>
              <a:spcBef>
                <a:spcPts val="499"/>
              </a:spcBef>
              <a:spcAft>
                <a:spcPts val="876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 care abou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small error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≈ page not crawl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6072120" y="5429160"/>
            <a:ext cx="2857680" cy="135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Bloom Fil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over crawled URL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111480" y="5800680"/>
            <a:ext cx="2262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nti-virus det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7675560" cy="487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49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dictionary of virus-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hecksu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ome given length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 For each position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check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lnSpc>
                <a:spcPct val="16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Brute-force check: </a:t>
            </a:r>
            <a:r>
              <a:rPr b="1" lang="en-US" sz="2600" spc="-1" strike="noStrike">
                <a:solidFill>
                  <a:srgbClr val="19194d"/>
                </a:solidFill>
                <a:latin typeface="Lucida Sans"/>
              </a:rPr>
              <a:t>O( |D| * |F| ) tim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Trie check: </a:t>
            </a:r>
            <a:r>
              <a:rPr b="1" lang="en-US" sz="2600" spc="-1" strike="noStrike">
                <a:solidFill>
                  <a:srgbClr val="19194d"/>
                </a:solidFill>
                <a:latin typeface="Lucida Sans"/>
              </a:rPr>
              <a:t>O( z * |F| ) tim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Better Solution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uild a BF on 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eck 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T[i,i+z-1] </a:t>
            </a:r>
            <a:r>
              <a:rPr b="0" lang="az-Cyrl-AZ" sz="2800" spc="-1" strike="noStrike">
                <a:solidFill>
                  <a:srgbClr val="c00000"/>
                </a:solidFill>
                <a:latin typeface="Comic Sans MS"/>
              </a:rPr>
              <a:t>є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c00000"/>
                </a:solidFill>
                <a:latin typeface="Lucida Sans"/>
              </a:rPr>
              <a:t>D,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f BF answers </a:t>
            </a:r>
            <a:r>
              <a:rPr b="1" lang="it-IT" sz="2400" spc="-1" strike="noStrike">
                <a:solidFill>
                  <a:srgbClr val="c00000"/>
                </a:solidFill>
                <a:latin typeface="Lucida Sans"/>
              </a:rPr>
              <a:t>Y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n “</a:t>
            </a:r>
            <a:r>
              <a:rPr b="0" i="1" lang="it-IT" sz="2400" spc="-1" strike="noStrike">
                <a:solidFill>
                  <a:srgbClr val="c00000"/>
                </a:solidFill>
                <a:latin typeface="Lucida Sans"/>
              </a:rPr>
              <a:t>warn the use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” or explicitly scan 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7" name="Group 16"/>
          <p:cNvGrpSpPr/>
          <p:nvPr/>
        </p:nvGrpSpPr>
        <p:grpSpPr>
          <a:xfrm>
            <a:off x="1062000" y="1785960"/>
            <a:ext cx="5867280" cy="1614240"/>
            <a:chOff x="1062000" y="1785960"/>
            <a:chExt cx="5867280" cy="1614240"/>
          </a:xfrm>
        </p:grpSpPr>
        <p:grpSp>
          <p:nvGrpSpPr>
            <p:cNvPr id="168" name="Group 17"/>
            <p:cNvGrpSpPr/>
            <p:nvPr/>
          </p:nvGrpSpPr>
          <p:grpSpPr>
            <a:xfrm>
              <a:off x="1690560" y="2879640"/>
              <a:ext cx="5238720" cy="520560"/>
              <a:chOff x="1690560" y="2879640"/>
              <a:chExt cx="5238720" cy="520560"/>
            </a:xfrm>
          </p:grpSpPr>
          <p:sp>
            <p:nvSpPr>
              <p:cNvPr id="169" name="Rectangle 18"/>
              <p:cNvSpPr/>
              <p:nvPr/>
            </p:nvSpPr>
            <p:spPr>
              <a:xfrm>
                <a:off x="2281320" y="3080880"/>
                <a:ext cx="4647960" cy="2282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0" name="Text Box 19"/>
              <p:cNvSpPr/>
              <p:nvPr/>
            </p:nvSpPr>
            <p:spPr>
              <a:xfrm>
                <a:off x="1690560" y="287964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71" name="Group 20"/>
            <p:cNvGrpSpPr/>
            <p:nvPr/>
          </p:nvGrpSpPr>
          <p:grpSpPr>
            <a:xfrm>
              <a:off x="4024080" y="2538360"/>
              <a:ext cx="1421280" cy="770760"/>
              <a:chOff x="4024080" y="2538360"/>
              <a:chExt cx="1421280" cy="770760"/>
            </a:xfrm>
          </p:grpSpPr>
          <p:sp>
            <p:nvSpPr>
              <p:cNvPr id="172" name="Rectangle 21"/>
              <p:cNvSpPr/>
              <p:nvPr/>
            </p:nvSpPr>
            <p:spPr>
              <a:xfrm>
                <a:off x="4110120" y="3080880"/>
                <a:ext cx="761760" cy="2282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3" name="Text Box 22"/>
              <p:cNvSpPr/>
              <p:nvPr/>
            </p:nvSpPr>
            <p:spPr>
              <a:xfrm>
                <a:off x="4315680" y="2538360"/>
                <a:ext cx="40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c00000"/>
                    </a:solidFill>
                    <a:latin typeface="Comic Sans MS"/>
                  </a:rPr>
                  <a:t>V</a:t>
                </a:r>
                <a:r>
                  <a:rPr b="0" lang="it-IT" sz="2400" spc="-1" strike="noStrike" baseline="-25000">
                    <a:solidFill>
                      <a:srgbClr val="c00000"/>
                    </a:solidFill>
                    <a:latin typeface="Comic Sans MS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4" name="Text Box 23"/>
              <p:cNvSpPr/>
              <p:nvPr/>
            </p:nvSpPr>
            <p:spPr>
              <a:xfrm>
                <a:off x="4024080" y="2704680"/>
                <a:ext cx="142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i          i+z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75" name="Rectangle 24"/>
            <p:cNvSpPr/>
            <p:nvPr/>
          </p:nvSpPr>
          <p:spPr>
            <a:xfrm>
              <a:off x="1062000" y="1785960"/>
              <a:ext cx="5867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6" name="Rectangle 14"/>
          <p:cNvSpPr/>
          <p:nvPr/>
        </p:nvSpPr>
        <p:spPr>
          <a:xfrm>
            <a:off x="6072120" y="4143240"/>
            <a:ext cx="2857680" cy="135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O(k*|F|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or even better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Rettangolo arrotondato 5"/>
          <p:cNvSpPr/>
          <p:nvPr/>
        </p:nvSpPr>
        <p:spPr>
          <a:xfrm>
            <a:off x="2928960" y="5715000"/>
            <a:ext cx="192888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5" name="Rettangolo 4"/>
          <p:cNvSpPr/>
          <p:nvPr/>
        </p:nvSpPr>
        <p:spPr>
          <a:xfrm>
            <a:off x="0" y="6143760"/>
            <a:ext cx="914400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99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357800" y="5286240"/>
            <a:ext cx="32144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6175440" y="3214800"/>
            <a:ext cx="539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7429680" y="3176640"/>
            <a:ext cx="323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929280" y="2928960"/>
            <a:ext cx="285840" cy="285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429680" y="3929040"/>
            <a:ext cx="285480" cy="3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6929280" y="2357280"/>
            <a:ext cx="2858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2786040" y="2571840"/>
            <a:ext cx="278604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6804000" y="4508640"/>
            <a:ext cx="2160720" cy="43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Not perfectly true but.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ttangolo 5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857160" y="4000680"/>
            <a:ext cx="650088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85880" y="5143680"/>
            <a:ext cx="800100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2"/>
          <p:cNvSpPr/>
          <p:nvPr/>
        </p:nvSpPr>
        <p:spPr>
          <a:xfrm>
            <a:off x="214200" y="3357720"/>
            <a:ext cx="892980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ttangolo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71680" y="3143160"/>
            <a:ext cx="778644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42960" y="4357800"/>
            <a:ext cx="77868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2292480" y="3413160"/>
          <a:ext cx="3994200" cy="246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2480" y="3413160"/>
                    <a:ext cx="399420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6948720" y="4140360"/>
            <a:ext cx="14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Lucida Sans"/>
              </a:rPr>
              <a:t>m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/</a:t>
            </a:r>
            <a:r>
              <a:rPr b="0" i="1" lang="en-US" sz="2800" spc="-1" strike="noStrike">
                <a:solidFill>
                  <a:srgbClr val="c00000"/>
                </a:solidFill>
                <a:latin typeface="Lucida Sans"/>
              </a:rPr>
              <a:t>n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 = 8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Line 5"/>
          <p:cNvSpPr/>
          <p:nvPr/>
        </p:nvSpPr>
        <p:spPr>
          <a:xfrm flipH="1">
            <a:off x="4276440" y="4214880"/>
            <a:ext cx="152280" cy="1066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475080" y="39574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pt </a:t>
            </a:r>
            <a:r>
              <a:rPr b="0" i="1" lang="en-US" sz="2000" spc="-1" strike="noStrike">
                <a:solidFill>
                  <a:srgbClr val="c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5.45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286680" y="5214960"/>
            <a:ext cx="2857320" cy="1643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We do have a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xplicit formul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for the optimal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9" name="Picture 3" descr="C:\Users\ferragin\Desktop\Picture3.png"/>
          <p:cNvPicPr/>
          <p:nvPr/>
        </p:nvPicPr>
        <p:blipFill>
          <a:blip r:embed="rId4"/>
          <a:stretch/>
        </p:blipFill>
        <p:spPr>
          <a:xfrm>
            <a:off x="249120" y="4286160"/>
            <a:ext cx="18939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Lenovo User</cp:lastModifiedBy>
  <cp:lastPrinted>2009-04-22T19:24:48Z</cp:lastPrinted>
  <dcterms:modified xsi:type="dcterms:W3CDTF">2010-11-18T09:33:02Z</dcterms:modified>
  <cp:revision>1050</cp:revision>
  <dc:subject/>
  <dc:title>Web Algorithmics</dc:title>
</cp:coreProperties>
</file>